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877-F77F-4FB2-924E-B4286777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443-857D-4520-B12D-0487BB85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2A6-8BAF-43A3-8044-F2530CC3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691-17C2-4A42-B935-C54D9903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688-08C3-4750-B762-1770441A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CB8-DA90-4286-BD38-592183C4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E70-2461-4407-ACBF-AC2200E7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8CF-195E-4287-97A9-DC423202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D6C-E7B2-4B86-89D5-3714B175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A32-BCBD-468B-814F-83D94C94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9B2-6FCD-4A64-8D23-C33EBAB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B0F-BB30-47A9-895A-F70166D8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AA27-F614-47F7-9737-12B9DA3A2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9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راع مع قطيعــه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أب مع بنيـ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قود الرب دومـ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يرشد في الطري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في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قات الشبـع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في أوقات الج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كـل من يديه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د الرب المسيح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200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572000" cy="72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راع يقودنا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آب يقودن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باحاً ومسـاءً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اليـوم الجد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ـراع يقودنــا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آب يقودن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باحـاً ومساءً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و الـرب الإ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12952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831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343400" cy="90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حينمــا نأتي إليه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ذلات الب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روحه القدوس يشفي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يمحو كـل أ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إلى المياه الراحة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هـو يريدن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ا نخاف ظل الموت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أنه معنا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7:42:28Z</dcterms:created>
  <dc:creator>SUZANNE.MD</dc:creator>
  <dc:description/>
  <dc:language>en-US</dc:language>
  <cp:lastModifiedBy>HANI SAFI</cp:lastModifiedBy>
  <dcterms:modified xsi:type="dcterms:W3CDTF">2003-04-30T13:46:23Z</dcterms:modified>
  <cp:revision>1</cp:revision>
  <dc:subject/>
  <dc:title>PowerPoint Presentation</dc:title>
</cp:coreProperties>
</file>